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D8D-9173-4BF1-8017-9CA6B99F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3B0-D667-4CD2-8E83-EE984A9E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4D8-0E6C-4905-A0AE-32DAE9E2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AC9-F322-4B68-8420-C9EA22C9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5CB-F754-41F6-BEE9-C6A16249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58F-7D75-47B6-846D-E32093A1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FB6-F7DD-4D40-B667-6C92D915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2F4-BCF7-4DD6-ABBB-56D901FF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1D8-A229-4900-BCB5-A49AF55F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18E-8BDC-4A85-86DE-518F1451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5AE-E83C-4356-8E2E-A0F05CB1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414-D615-42B4-B137-C830A4DC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160A-D734-41A0-8699-649E634DD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060640"/>
            <a:ext cx="792468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Lesson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ednesday 26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Aug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95480"/>
            <a:ext cx="86868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otiv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Comic Sans MS"/>
              </a:rPr>
              <a:t>What drives a performer to improve and succe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13000"/>
            <a:ext cx="86868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otivation can be internal or external and is important wh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in poor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when ti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when practice is repet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447920"/>
            <a:ext cx="8686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ask 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omplete page 11 of your course n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ime – 5 min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838080"/>
            <a:ext cx="868680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evels of Arou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Relationship Between Arousal an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6248520" cy="3532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8600" y="5943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at can affect levels of arous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Homework T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1628640"/>
            <a:ext cx="84582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nswer the following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Q) Physical, skill-related and mental fitness are all required for successful performance.  With reference to your chosen activity, explain why one aspect of each of these types of fitness is important (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Please complete this on A4 lined paper and hand in on Wednesday 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Comic Sans MS"/>
              </a:rPr>
              <a:t>nd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 Septemb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424160"/>
            <a:ext cx="86421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he end of today’s lesson you  shou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now what the 3 different types of fitnes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ve examples of aspects under each type along with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ve examples for why some are important in hocke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ve a number of specific examples for why cardio-respiratory endurance and speed are vital in hoc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itial 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2781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acti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378936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evels of arou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551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g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530064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uscular End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3789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46530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rdio-respiratory end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64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4365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59640" y="2997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4797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4005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-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5229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268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In your jotter write down the following 3 headings side by side: 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Comic Sans MS"/>
              </a:rPr>
              <a:t>Physical Fitness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,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Comic Sans MS"/>
              </a:rPr>
              <a:t>Skill-Related Fitness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 &amp;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Comic Sans MS"/>
              </a:rPr>
              <a:t>Mental Fitness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.  Put the words below under the correct h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616572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If you can think of any other then add them to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424160"/>
            <a:ext cx="86421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he end of today’s lesson you  shou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now what the 3 different types of fitnes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ve examples of aspects under each type along with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ve examples for why some are important in hocke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ve a number of specific examples for why cardio-respiratory endurance and speed are vital in hoc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Types of Fitn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557360"/>
            <a:ext cx="813600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thre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typ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fitn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ysical Fi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kill-Related Fi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ental Fi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will look at physical fitness in most detail but there are some things you have to know about skill-related and mental fit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hysical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676520"/>
            <a:ext cx="86868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 hockey the 2 most important aspects of physical fitness for a midfielder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ardio-Respiratory endu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*Write down in your jotter the definition for e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hysical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6765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ad page 7 of your course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565360"/>
            <a:ext cx="8686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ask 1: Discuss with your partner why speed is important to a midfield player.  Try to think of at least 4 reason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ask 2:  Complete the worksheet on speed. Time – 10 m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kill-Related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341360"/>
            <a:ext cx="868680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Read pages 8 &amp; 9 of your course n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lass discussion.  Reasons why agility and timing are impor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ask 3: Complete workbox 3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ime – 10 m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1295280"/>
            <a:ext cx="8686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etermin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Comic Sans MS"/>
              </a:rPr>
              <a:t>The desire to succe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05120" cy="1484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589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295280"/>
            <a:ext cx="86868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termination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mportant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tempting to win a 50:50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tempting to reach a ball that is running out of 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atigue sets in and you must continue to maintain a high level o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05120" cy="1484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589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08-26T07:32:10Z</dcterms:modified>
  <cp:revision>12</cp:revision>
  <dc:subject/>
  <dc:title>Intermediate PE</dc:title>
</cp:coreProperties>
</file>